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B280E-074E-4236-86AF-5C6343696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5E04C-D4CE-4155-BC12-C9CA4D438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8015D-91D7-49AE-AC28-8BCF8162D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7ACD2-7CBD-4FAE-95F8-BF8E9F0EF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8B2BF-DA2F-40C9-975A-755574044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9FDD3-A6F9-4394-94BB-6934507C8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A0873-7ADD-4EE7-824D-84C83327C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8EA36-8D5C-4B86-B6DA-F5A9D3A10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CE7D0-C26C-41FD-9F8A-6B72B09F7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E80AD-7559-49B4-B8BD-D6B9E9110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12439-59C2-4570-AF8B-050F6512D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7123A-879E-4336-A8B4-8F8DE7947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55AD3-7B0E-403B-9468-F8F093BB9AE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80880" y="1981080"/>
            <a:ext cx="848700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Lesson11 Mr.Wood Teaches a Lesson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143000" y="1981080"/>
            <a:ext cx="632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Line ,line , line ,circle circl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905120" y="2819520"/>
            <a:ext cx="487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Three line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 make </a:t>
            </a:r>
            <a:r>
              <a:rPr b="1" lang="en-US" sz="28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 triangle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362320" y="3581280"/>
            <a:ext cx="3886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Square ,square 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981080" y="4419720"/>
            <a:ext cx="472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Four line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 make </a:t>
            </a:r>
            <a:r>
              <a:rPr b="1" lang="en-US" sz="2800" spc="-1" strike="noStrike">
                <a:solidFill>
                  <a:srgbClr val="ff00ff"/>
                </a:solidFill>
                <a:latin typeface="Arial"/>
              </a:rPr>
              <a:t>a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squa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762120"/>
            <a:ext cx="36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Let’s  Ch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295280" y="1600200"/>
            <a:ext cx="624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A line is a </a:t>
            </a:r>
            <a:r>
              <a:rPr b="1" lang="en-US" sz="3600" spc="-1" strike="noStrike">
                <a:solidFill>
                  <a:srgbClr val="ff33cc"/>
                </a:solidFill>
                <a:latin typeface="Arial"/>
              </a:rPr>
              <a:t>shape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523880" y="2362320"/>
            <a:ext cx="66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A triangle is a </a:t>
            </a:r>
            <a:r>
              <a:rPr b="1" lang="en-US" sz="3600" spc="-1" strike="noStrike">
                <a:solidFill>
                  <a:srgbClr val="ff33cc"/>
                </a:solidFill>
                <a:latin typeface="Arial"/>
              </a:rPr>
              <a:t>shape 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447920" y="3124080"/>
            <a:ext cx="66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A square is a </a:t>
            </a:r>
            <a:r>
              <a:rPr b="1" lang="en-US" sz="3600" spc="-1" strike="noStrike">
                <a:solidFill>
                  <a:srgbClr val="ff33cc"/>
                </a:solidFill>
                <a:latin typeface="Arial"/>
              </a:rPr>
              <a:t>shape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828800" y="396252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A circle is a </a:t>
            </a:r>
            <a:r>
              <a:rPr b="1" lang="en-US" sz="3600" spc="-1" strike="noStrike">
                <a:solidFill>
                  <a:srgbClr val="ff33cc"/>
                </a:solidFill>
                <a:latin typeface="Arial"/>
              </a:rPr>
              <a:t>shape 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371600" y="4800600"/>
            <a:ext cx="6705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ff"/>
                </a:solidFill>
                <a:latin typeface="Arial"/>
              </a:rPr>
              <a:t>They are all ______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52880" y="480060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shap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762120" y="1600200"/>
            <a:ext cx="76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ff"/>
                </a:solidFill>
                <a:latin typeface="Arial"/>
              </a:rPr>
              <a:t>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990720" y="160020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Arial"/>
              </a:rPr>
              <a:t>What’s your favourite shap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62120" y="342900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Arial"/>
              </a:rPr>
              <a:t>B</a:t>
            </a:r>
            <a:r>
              <a:rPr b="1" lang="zh-CN" sz="2800" spc="-1" strike="noStrike">
                <a:solidFill>
                  <a:srgbClr val="ff00ff"/>
                </a:solidFill>
                <a:latin typeface="Arial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828800" y="3573360"/>
            <a:ext cx="693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066680" y="335268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Arial"/>
              </a:rPr>
              <a:t>My favourite shape is _________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990720" y="4648320"/>
            <a:ext cx="81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Arial"/>
              </a:rPr>
              <a:t>————— </a:t>
            </a:r>
            <a:r>
              <a:rPr b="1" lang="zh-CN" sz="3600" spc="-1" strike="noStrike">
                <a:solidFill>
                  <a:srgbClr val="ff00ff"/>
                </a:solidFill>
                <a:latin typeface="Arial"/>
              </a:rPr>
              <a:t>is my favourite shape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172200" y="335268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a circ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676520" y="441972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A circ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1447920" y="2286000"/>
          <a:ext cx="6400800" cy="4078440"/>
        </p:xfrm>
        <a:graphic>
          <a:graphicData uri="http://schemas.openxmlformats.org/drawingml/2006/table">
            <a:tbl>
              <a:tblPr/>
              <a:tblGrid>
                <a:gridCol w="1295280"/>
                <a:gridCol w="1219320"/>
                <a:gridCol w="1066680"/>
                <a:gridCol w="1295280"/>
                <a:gridCol w="1524240"/>
              </a:tblGrid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me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ap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od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iut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ou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nny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4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nny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     Ming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2" name=""/>
          <p:cNvSpPr/>
          <p:nvPr/>
        </p:nvSpPr>
        <p:spPr>
          <a:xfrm>
            <a:off x="1295280" y="1371600"/>
            <a:ext cx="723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What’s _____’s   favourite _______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523880" y="2362320"/>
            <a:ext cx="114300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685800" y="60948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Homework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1828800"/>
            <a:ext cx="7010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Write more sentences about your  favourites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295280" y="3581280"/>
            <a:ext cx="632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The more the bett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057400" y="4191120"/>
            <a:ext cx="601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（越多越好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1143000" y="1828800"/>
            <a:ext cx="6858000" cy="685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Thank you very much!</a:t>
            </a:r>
            <a:endParaRPr b="0" lang="en-US" sz="5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18-08-17T02:47:18Z</dcterms:modified>
  <cp:revision>19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